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27A903-4939-43BB-B1BA-80EF8C23EB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D32-5E1A-45B1-9EE1-1669BBDC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7E9-5840-4393-80D0-4220FCA8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E64-E6EF-47B2-89F8-241DF215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AED-8382-4AD6-B2B2-09F43470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BF4-6F40-4178-BA1D-A5E35A96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9F5-E1D1-45D2-987D-D74BC81C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CD2-6375-4288-8695-99AD50E0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23A-A178-4F5B-8EEE-B4DF6421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CFB-C27B-4ADD-897E-E720EA9F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159-7E4E-4144-8A05-7CF2DAAB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018-871B-49A2-8850-24388E08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669-771D-4665-A3CC-0BC99560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7E46-499D-411F-916B-41B4617BF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fecto dir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tiv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duc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de la pobr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000 empresas nuevas y pequ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ñas desarrolladas en las provincias más po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incubadoras de modelo empresarial en provincia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á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dquisi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instalaciones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pacita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rindar microcréditos pro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Enfoque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ón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1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25440" y="990720"/>
            <a:ext cx="1846080" cy="5410080"/>
            <a:chOff x="7525440" y="990720"/>
            <a:chExt cx="184608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5540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6996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42320" y="5486400"/>
              <a:ext cx="86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619760" y="3194280"/>
              <a:ext cx="165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ndic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ón colectiva de cu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Institucional/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Operacional/ destrezas, habilidades, productos y serv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굴림"/>
                </a:rPr>
                <a:t>¡Hu</a:t>
              </a: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mano!</a:t>
              </a: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ecto dir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mento en el empleo y la genera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n de 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Institucional/ comportamiento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ñ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46040" y="245556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46040" y="352224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38480" y="4551120"/>
            <a:ext cx="103356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03200" y="1536480"/>
            <a:ext cx="973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2-23T13:27:50Z</dcterms:modified>
  <cp:revision>6</cp:revision>
  <dc:subject/>
  <dc:title>PowerPoint Presentation</dc:title>
</cp:coreProperties>
</file>